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17A-ED71-4717-9DB6-3EB8E9FA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880-6E8B-4F08-B535-95BDE446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30D-DE2B-4E5D-B0B9-709150ED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AAD-19CC-4C69-81C0-5C594304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998-A835-489A-8029-DF824022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C13-C2AE-4CDF-85F7-EDD2D326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63A-5A32-4E1F-9EE6-27D10CE3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196-1881-44EB-A5A2-DFEE262D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E7F-F808-4C6A-B3DF-38741405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0BB-22E6-4C4F-A761-C3438D81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3B6-0A77-40B6-8380-4D2A6533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34A-02BF-4005-B2A4-CE565730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F833-19BA-440E-B1C1-F12AA0F1E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669960"/>
            <a:ext cx="350532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ربِّّي أنتَ طري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في معاثرِ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ربي أنتَ رفي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عندَ ساعةِ المم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رَجَو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639720"/>
            <a:ext cx="350532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نارٌ لقل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أيضاً نس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 هديٌ لدرْ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فجْرِي الوسيم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 رَجَو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38680" y="0"/>
            <a:ext cx="350532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َعْضُدِ الموجَعينَ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ساعدِ البائِس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شْبعِ الجائع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رْجعِ الخاطئين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 رَجَو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28:57Z</dcterms:modified>
  <cp:revision>2</cp:revision>
  <dc:subject/>
  <dc:title>PowerPoint Presentation</dc:title>
</cp:coreProperties>
</file>